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wmf" ContentType="image/x-wmf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7E61-F2DD-40ED-BDAF-9D4C6307B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9887-66E9-42A0-818A-134D5E47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AB316-DB46-44BC-8787-81CCCC2C9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F738-A352-4F2C-AEA5-BA2A7DE08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84C14-AC00-46AF-A738-493C71890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89D45-0278-45F2-9F37-1E084CCCA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35925-A97B-47A5-AC86-552FC6E0F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E565F-7E10-4127-8722-2498F1750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10026-E2F5-4D0E-8A76-69A5A3A48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5006F6-3CD5-4142-B99B-04FCC6C2C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A0762-834D-4ECC-8F0B-44D29039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D6C65-C0A2-406A-8F85-4AA044EB2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E2399-1237-41B1-A96C-142BD687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BB416-37C9-44FD-BA8B-C3355B9924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61229C-9A34-40A7-9D75-C9E52E892F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0BC54-928B-4F3B-A491-501601BC32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5341-DD34-405D-B886-2E2614986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AE2323-6A55-4DBB-B66A-BEF95F6AE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42502B9-8428-4332-85BC-05932BB07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ECF41F-6EC7-4268-83D6-1FFFD3F3C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FA3363-C581-45AE-8825-312C93C4C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9559B38-6420-4E03-9F77-194ADE6883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3C1C-41A7-4488-AB84-21D7C64F8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AEB1B0-E732-4DD5-BD8C-C8AE5176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25078-50E9-4C51-AE6D-B30C6B6A1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44265B3-C83C-4335-91BA-1D041DE0D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5BE5C72-5FF6-4058-A9EC-789FBEC0B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8FA90CB-7D54-4624-8282-47FB41C3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04DDAD-F0FE-40C5-8E66-58748A60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BB71B3B-16F3-4237-93DB-A153E4D04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5F710-D5D9-465C-A82C-E21A76D2F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C303AE1-77E0-4B6D-98A0-03C673F81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20F946-188B-454F-9708-484A578E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93EEE-B211-41A3-944D-A67993F90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236562-1D97-4825-8FDE-46BE01F1E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BD6AD4-162D-4D6C-8A47-34A15014E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B11F28-2BF0-4BB1-B483-3FB99F83D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008D18-8AA8-4FB8-B31F-B8E8D4EB0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ECE692-5374-47AE-B1C9-7CDEC370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AEAEBB1-7BE1-4739-B77F-2332117E0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535618-8B5A-4779-A7D9-DA823617B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DB6723-0BF0-44E3-8199-A38962A85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F41AE90-A948-441B-A729-78E5A2222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2212EEA-90BA-44DC-8DA2-52BEE9491C9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1AB7-9CD1-48B4-8D12-26AC20B62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78CC84B-45DF-40A8-B4FB-AC580A167E71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A286131-9D19-4F24-8FE5-DBCEBAB25CCE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17B2929-465E-46B8-AAC7-B363C4B6FA16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6C14CE-DBB2-44A2-AC80-A34B0C2CD4D5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ECDE7B2-67FB-4D81-8937-58A77C97CBD6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F8DF6-A902-4A43-9927-1F212EB50B40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23779CE-1B83-45A4-880C-987A36F73709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117F10F-A345-4FE2-875D-BB8ACA2F11D8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354C2CD-AB3E-4E62-BFCA-A4961E29396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1DB1CFD-2FF9-469E-9DEF-E60EBD55520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subTitle"/>
          </p:nvPr>
        </p:nvSpPr>
        <p:spPr>
          <a:xfrm>
            <a:off x="457200" y="1142640"/>
            <a:ext cx="82296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944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C0AB6-04D6-4299-B2C2-7FA2F176E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224964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450828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B090EDE-6207-4C04-B697-0C8B2FDEE5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DDF0-E582-46CF-B7BC-E79B8F2D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674240" y="450828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BBF4-06D0-4A1C-829A-03A698925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74240" y="224964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7200" y="450828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1DA30-2C81-4A01-8C3B-D9DF7F8D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6550D-A8B3-4434-9BE3-06BAFC22658C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Rectangle 19"/>
          <p:cNvSpPr/>
          <p:nvPr/>
        </p:nvSpPr>
        <p:spPr>
          <a:xfrm flipV="1">
            <a:off x="5410080" y="3809880"/>
            <a:ext cx="3733920" cy="907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20"/>
          <p:cNvSpPr/>
          <p:nvPr/>
        </p:nvSpPr>
        <p:spPr>
          <a:xfrm flipV="1">
            <a:off x="5410080" y="3896640"/>
            <a:ext cx="3733920" cy="191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1"/>
          <p:cNvSpPr/>
          <p:nvPr/>
        </p:nvSpPr>
        <p:spPr>
          <a:xfrm flipV="1">
            <a:off x="5410080" y="4114800"/>
            <a:ext cx="373392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 flipV="1">
            <a:off x="5410080" y="4163400"/>
            <a:ext cx="1965600" cy="19080"/>
          </a:xfrm>
          <a:prstGeom prst="rect">
            <a:avLst/>
          </a:prstGeom>
          <a:solidFill>
            <a:srgbClr val="438086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24"/>
          <p:cNvSpPr/>
          <p:nvPr/>
        </p:nvSpPr>
        <p:spPr>
          <a:xfrm flipV="1">
            <a:off x="5410080" y="4199040"/>
            <a:ext cx="1965600" cy="9360"/>
          </a:xfrm>
          <a:prstGeom prst="rect">
            <a:avLst/>
          </a:prstGeom>
          <a:solidFill>
            <a:srgbClr val="438086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ounded Rectangle 25"/>
          <p:cNvSpPr/>
          <p:nvPr/>
        </p:nvSpPr>
        <p:spPr>
          <a:xfrm>
            <a:off x="5410080" y="3962520"/>
            <a:ext cx="3063960" cy="270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ounded Rectangle 26"/>
          <p:cNvSpPr/>
          <p:nvPr/>
        </p:nvSpPr>
        <p:spPr>
          <a:xfrm>
            <a:off x="7377120" y="406080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40"/>
          <p:cNvSpPr/>
          <p:nvPr/>
        </p:nvSpPr>
        <p:spPr>
          <a:xfrm>
            <a:off x="0" y="3649680"/>
            <a:ext cx="9144000" cy="24444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41"/>
          <p:cNvSpPr/>
          <p:nvPr/>
        </p:nvSpPr>
        <p:spPr>
          <a:xfrm>
            <a:off x="0" y="3675240"/>
            <a:ext cx="9144000" cy="14112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42"/>
          <p:cNvSpPr/>
          <p:nvPr/>
        </p:nvSpPr>
        <p:spPr>
          <a:xfrm flipV="1">
            <a:off x="6413400" y="3643200"/>
            <a:ext cx="2730600" cy="24768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43"/>
          <p:cNvSpPr/>
          <p:nvPr/>
        </p:nvSpPr>
        <p:spPr>
          <a:xfrm>
            <a:off x="0" y="0"/>
            <a:ext cx="9144000" cy="370188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4"/>
          </p:nvPr>
        </p:nvSpPr>
        <p:spPr>
          <a:xfrm>
            <a:off x="6705720" y="4206960"/>
            <a:ext cx="960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5"/>
          </p:nvPr>
        </p:nvSpPr>
        <p:spPr>
          <a:xfrm>
            <a:off x="5409720" y="420516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6"/>
          </p:nvPr>
        </p:nvSpPr>
        <p:spPr>
          <a:xfrm>
            <a:off x="8319600" y="1080"/>
            <a:ext cx="74772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F3B9D-C20D-439E-91E6-F7D18F395EB8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 type="dt" idx="7"/>
          </p:nvPr>
        </p:nvSpPr>
        <p:spPr>
          <a:xfrm>
            <a:off x="658620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 type="sldNum" idx="8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FA814-A369-4A7C-BEE5-7138684D0543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 type="ftr" idx="9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582960" y="612720"/>
            <a:ext cx="957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438086"/>
                </a:solidFill>
                <a:latin typeface="Georgia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5257800" y="612720"/>
            <a:ext cx="1325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174160" y="1080"/>
            <a:ext cx="76176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5B6778-07A5-4844-A711-6F4B8660A635}" type="slidenum">
              <a:rPr b="0" lang="en-US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27"/>
          <p:cNvSpPr/>
          <p:nvPr/>
        </p:nvSpPr>
        <p:spPr>
          <a:xfrm>
            <a:off x="0" y="366840"/>
            <a:ext cx="9144000" cy="838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7080" bIns="37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28"/>
          <p:cNvSpPr/>
          <p:nvPr/>
        </p:nvSpPr>
        <p:spPr>
          <a:xfrm>
            <a:off x="0" y="0"/>
            <a:ext cx="9144000" cy="311040"/>
          </a:xfrm>
          <a:prstGeom prst="rect">
            <a:avLst/>
          </a:prstGeom>
          <a:solidFill>
            <a:srgbClr val="4244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29"/>
          <p:cNvSpPr/>
          <p:nvPr/>
        </p:nvSpPr>
        <p:spPr>
          <a:xfrm>
            <a:off x="0" y="307800"/>
            <a:ext cx="9144000" cy="921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30"/>
          <p:cNvSpPr/>
          <p:nvPr/>
        </p:nvSpPr>
        <p:spPr>
          <a:xfrm flipV="1">
            <a:off x="5410080" y="359280"/>
            <a:ext cx="3733920" cy="90360"/>
          </a:xfrm>
          <a:prstGeom prst="rect">
            <a:avLst/>
          </a:prstGeom>
          <a:solidFill>
            <a:srgbClr val="4380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31"/>
          <p:cNvSpPr/>
          <p:nvPr/>
        </p:nvSpPr>
        <p:spPr>
          <a:xfrm flipV="1">
            <a:off x="5410080" y="438480"/>
            <a:ext cx="3733920" cy="181080"/>
          </a:xfrm>
          <a:prstGeom prst="rect">
            <a:avLst/>
          </a:prstGeom>
          <a:solidFill>
            <a:srgbClr val="43808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ounded Rectangle 32"/>
          <p:cNvSpPr/>
          <p:nvPr/>
        </p:nvSpPr>
        <p:spPr>
          <a:xfrm>
            <a:off x="5407200" y="496800"/>
            <a:ext cx="3063600" cy="2880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0160" bIns="-20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ounded Rectangle 33"/>
          <p:cNvSpPr/>
          <p:nvPr/>
        </p:nvSpPr>
        <p:spPr>
          <a:xfrm>
            <a:off x="7373880" y="588960"/>
            <a:ext cx="1600200" cy="363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34"/>
          <p:cNvSpPr/>
          <p:nvPr/>
        </p:nvSpPr>
        <p:spPr>
          <a:xfrm>
            <a:off x="9085320" y="-1440"/>
            <a:ext cx="5724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Rectangle 35"/>
          <p:cNvSpPr/>
          <p:nvPr/>
        </p:nvSpPr>
        <p:spPr>
          <a:xfrm>
            <a:off x="9043920" y="-1440"/>
            <a:ext cx="28800" cy="620640"/>
          </a:xfrm>
          <a:prstGeom prst="rect">
            <a:avLst/>
          </a:prstGeom>
          <a:solidFill>
            <a:srgbClr val="ffffff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Rectangle 36"/>
          <p:cNvSpPr/>
          <p:nvPr/>
        </p:nvSpPr>
        <p:spPr>
          <a:xfrm>
            <a:off x="9024840" y="-1440"/>
            <a:ext cx="9720" cy="62064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Rectangle 37"/>
          <p:cNvSpPr/>
          <p:nvPr/>
        </p:nvSpPr>
        <p:spPr>
          <a:xfrm>
            <a:off x="8975880" y="-1440"/>
            <a:ext cx="27000" cy="620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Rectangle 38"/>
          <p:cNvSpPr/>
          <p:nvPr/>
        </p:nvSpPr>
        <p:spPr>
          <a:xfrm>
            <a:off x="8915400" y="0"/>
            <a:ext cx="55440" cy="58572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Rectangle 39"/>
          <p:cNvSpPr/>
          <p:nvPr/>
        </p:nvSpPr>
        <p:spPr>
          <a:xfrm>
            <a:off x="8874000" y="0"/>
            <a:ext cx="7920" cy="5857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9" descr="lww_wk_logo[1].gif"/>
          <p:cNvPicPr/>
          <p:nvPr/>
        </p:nvPicPr>
        <p:blipFill>
          <a:blip r:embed="rId2"/>
          <a:stretch/>
        </p:blipFill>
        <p:spPr>
          <a:xfrm>
            <a:off x="457200" y="6350040"/>
            <a:ext cx="2171880" cy="358560"/>
          </a:xfrm>
          <a:prstGeom prst="rect">
            <a:avLst/>
          </a:prstGeom>
          <a:ln w="0">
            <a:noFill/>
          </a:ln>
        </p:spPr>
      </p:pic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24456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1" marL="657360" indent="-246240">
              <a:spcBef>
                <a:spcPts val="300"/>
              </a:spcBef>
              <a:buClr>
                <a:srgbClr val="438086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2" marL="922320" indent="-21888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3" marL="1179360" indent="-199800">
              <a:spcBef>
                <a:spcPts val="300"/>
              </a:spcBef>
              <a:buClr>
                <a:srgbClr val="53548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4" marL="1389240" indent="-182880">
              <a:spcBef>
                <a:spcPts val="300"/>
              </a:spcBef>
              <a:buClr>
                <a:srgbClr val="a04da3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5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lvl="6" marL="1389240" indent="-182880">
              <a:spcBef>
                <a:spcPts val="300"/>
              </a:spcBef>
              <a:buClr>
                <a:srgbClr val="000000"/>
              </a:buClr>
              <a:buFont typeface="Georgia"/>
              <a:buChar char="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13"/>
          </p:nvPr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438086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09 Wolters Kluwer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 type="sldNum" idx="14"/>
          </p:nvPr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9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172A1-B7A9-45B3-8A9A-560E41FC98DA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edf.kg.ac.yu/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journals.lww.com/academicmedicine/Fulltext/2003/01000/Assessing_Students__Performances_in_a.19.aspx" TargetMode="External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4"/>
          <p:cNvSpPr/>
          <p:nvPr/>
        </p:nvSpPr>
        <p:spPr>
          <a:xfrm>
            <a:off x="2202480" y="700200"/>
            <a:ext cx="43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24456"/>
                </a:solidFill>
                <a:latin typeface="Times New Roman"/>
              </a:rPr>
              <a:t>Факултет медицинских наука у Крагујевц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424456"/>
                </a:solidFill>
                <a:latin typeface="Times New Roman"/>
              </a:rPr>
              <a:t>Интегрисане академске студије медицин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9" name="Picture 5" descr="mf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101080" y="0"/>
            <a:ext cx="1042920" cy="1405080"/>
          </a:xfrm>
          <a:prstGeom prst="rect">
            <a:avLst/>
          </a:prstGeom>
          <a:ln w="0">
            <a:noFill/>
          </a:ln>
        </p:spPr>
      </p:pic>
      <p:sp>
        <p:nvSpPr>
          <p:cNvPr id="270" name="Rectangle 6"/>
          <p:cNvSpPr/>
          <p:nvPr/>
        </p:nvSpPr>
        <p:spPr>
          <a:xfrm>
            <a:off x="324000" y="1752480"/>
            <a:ext cx="83818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МОДУЛ </a:t>
            </a:r>
            <a:r>
              <a:rPr b="1" lang="sr-CS" sz="2400" spc="-1" strike="noStrike">
                <a:solidFill>
                  <a:srgbClr val="424456"/>
                </a:solidFill>
                <a:latin typeface="Times New Roman"/>
              </a:rPr>
              <a:t>2</a:t>
            </a:r>
            <a:r>
              <a:rPr b="1" lang="ru-RU" sz="2400" spc="-1" strike="noStrike">
                <a:solidFill>
                  <a:srgbClr val="424456"/>
                </a:solidFill>
                <a:latin typeface="Times New Roman"/>
              </a:rPr>
              <a:t>:</a:t>
            </a: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424456"/>
                </a:solidFill>
                <a:latin typeface="Times New Roman"/>
              </a:rPr>
              <a:t>Посебни видови вештине комуникациј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Rectangle 7"/>
          <p:cNvSpPr/>
          <p:nvPr/>
        </p:nvSpPr>
        <p:spPr>
          <a:xfrm>
            <a:off x="1763640" y="3124080"/>
            <a:ext cx="5616720" cy="170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200" spc="-1" strike="noStrike">
                <a:solidFill>
                  <a:srgbClr val="424456"/>
                </a:solidFill>
                <a:latin typeface="Times New Roman"/>
              </a:rPr>
              <a:t>11. наставна јединица (једанаеста недеља)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424456"/>
                </a:solidFill>
                <a:latin typeface="Times New Roman"/>
              </a:rPr>
              <a:t>Вештина комуникације у репродуктивној медици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8"/>
          <p:cNvSpPr/>
          <p:nvPr/>
        </p:nvSpPr>
        <p:spPr>
          <a:xfrm>
            <a:off x="4272840" y="5732640"/>
            <a:ext cx="266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424456"/>
                </a:solidFill>
                <a:latin typeface="Times New Roman"/>
              </a:rPr>
              <a:t>Доц. др Марија Шора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Избор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анала</a:t>
            </a:r>
            <a:r>
              <a:rPr b="0" lang="sr-Latn-CS" sz="3200" spc="-1" strike="noStrike">
                <a:solidFill>
                  <a:srgbClr val="424456"/>
                </a:solidFill>
                <a:latin typeface="Trebuchet MS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Trebuchet MS"/>
              </a:rPr>
              <a:t>комуникације</a:t>
            </a:r>
            <a:endParaRPr b="0" lang="en-US" sz="32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826560" y="2249640"/>
            <a:ext cx="785988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ирект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нет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(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и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смено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Лична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резентациј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едиј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нтернет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609480" indent="-609480">
              <a:spcBef>
                <a:spcPts val="300"/>
              </a:spcBef>
              <a:buClr>
                <a:srgbClr val="a04da3"/>
              </a:buClr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Догађај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манифестац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338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24456"/>
                </a:solidFill>
                <a:latin typeface="Trebuchet MS"/>
              </a:rPr>
              <a:t>List 1</a:t>
            </a:r>
            <a:endParaRPr b="0" lang="en-US" sz="16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304" name="Picture Placeholder 1" descr="List 1"/>
          <p:cNvPicPr/>
          <p:nvPr/>
        </p:nvPicPr>
        <p:blipFill>
          <a:blip r:embed="rId1"/>
          <a:srcRect l="0" t="9142" r="0" b="9142"/>
          <a:stretch/>
        </p:blipFill>
        <p:spPr>
          <a:xfrm>
            <a:off x="457200" y="541440"/>
            <a:ext cx="5715000" cy="571500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List 1. The Nine Abilities Addressed in Brown Medical School's Competency-based Curriculum</a:t>
            </a: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Footer Placeholder 4"/>
          <p:cNvSpPr/>
          <p:nvPr/>
        </p:nvSpPr>
        <p:spPr>
          <a:xfrm>
            <a:off x="2666880" y="6356520"/>
            <a:ext cx="5639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438086"/>
                </a:solidFill>
                <a:latin typeface="Georgia"/>
              </a:rPr>
              <a:t>Copyright © 2013 Academic Medicine. Published by Lippincott Williams &amp; Wilkins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Slide Number Placeholder 5"/>
          <p:cNvSpPr/>
          <p:nvPr/>
        </p:nvSpPr>
        <p:spPr>
          <a:xfrm>
            <a:off x="8305920" y="6356520"/>
            <a:ext cx="3808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B2C8B-F5B4-4A8E-9A83-6AB486ADB865}" type="slidenum">
              <a:rPr b="0" lang="en-US" sz="9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67afbd"/>
                </a:solidFill>
                <a:uFillTx/>
                <a:latin typeface="Georgia"/>
                <a:hlinkClick r:id="rId2"/>
              </a:rPr>
              <a:t>Assessing Students' Performances in a Competency-based Curriculum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Smith, Stephen R.; Dollase, Richard H.; Boss, Judith A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Academic Medicine. 78(1):97-107, January 2003.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Georgia"/>
              </a:rPr>
              <a:t>doi: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eorgia"/>
              </a:rPr>
              <a:t>            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169560"/>
            <a:ext cx="8229600" cy="81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424456"/>
                </a:solidFill>
                <a:latin typeface="Trebuchet MS"/>
              </a:rPr>
              <a:t>Преглед у гинеколошкој амбуланти</a:t>
            </a:r>
            <a:endParaRPr b="0" lang="en-US" sz="18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248160" y="2438280"/>
            <a:ext cx="2438280" cy="3813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 fontScale="88000"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У гинеколошком прегледу  учествују максимално три особе: пацијент, лекар и медицинска сестр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Разговор са пацијенткињом  и  упознавање са главним тегобама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Омогућити пацијенткињи интимни простор да се припеми за преглед (огртач, папуче...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Када се пацијенткиња смести на гинеколошки сто прилазимо да извршимо преглед (адекватни инструменти, одговарајуће осветљење, асистенција медицинске сестре)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200" spc="-1" strike="noStrike">
                <a:solidFill>
                  <a:srgbClr val="000000"/>
                </a:solidFill>
                <a:latin typeface="Georgia"/>
              </a:rPr>
              <a:t>Током прегледа који треба да је што краћи али и што информативнији  потребна је максимална озбиљност и посвећеност пацијенту....</a:t>
            </a:r>
            <a:endParaRPr b="0" lang="en-US" sz="1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48160" y="550440"/>
            <a:ext cx="2438280" cy="183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400" spc="-1" strike="noStrike">
                <a:solidFill>
                  <a:srgbClr val="000000"/>
                </a:solidFill>
                <a:latin typeface="Georgia"/>
              </a:rPr>
              <a:t>Особености гинеколошког прегледа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Picture Placeholder 2"/>
          <p:cNvSpPr/>
          <p:nvPr/>
        </p:nvSpPr>
        <p:spPr>
          <a:xfrm>
            <a:off x="468360" y="549360"/>
            <a:ext cx="5715000" cy="5715000"/>
          </a:xfrm>
          <a:prstGeom prst="rect">
            <a:avLst/>
          </a:prstGeom>
          <a:noFill/>
          <a:ln w="936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Picture 2" descr="http://www.savjetnica.com/wp-content/uploads/2011/03/ginekoloska-ordinacija.jpg"/>
          <p:cNvPicPr/>
          <p:nvPr/>
        </p:nvPicPr>
        <p:blipFill>
          <a:blip r:embed="rId1"/>
          <a:srcRect l="23169" t="0" r="23169" b="0"/>
          <a:stretch/>
        </p:blipFill>
        <p:spPr>
          <a:xfrm>
            <a:off x="1476360" y="1341360"/>
            <a:ext cx="3816360" cy="4248360"/>
          </a:xfrm>
          <a:prstGeom prst="rect">
            <a:avLst/>
          </a:prstGeom>
          <a:ln w="9360">
            <a:solidFill>
              <a:srgbClr val="7f7f7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 гинеколошкој пракси поред широког знања лекар мора да поседује и интерперсоналне и комуникационе вештине како би промовисао сарадњу, отвореност и поверење између пацијента и лека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24012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кињу треба сагледати као целокупно биће које нема само здравствени проблем већ могућ и психолошки, социјални или породични проблем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Однос лекара и пацијента би требао бити отворен, искрен и пажљив те захтева стрпљење, посвећеност, праксу..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Кључне вештине: емпатија, пажљиво слушање, експертско знање и рапорт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Поверење је од фундаменталног значаја: охрабрити пацијенткињу да искаже своја осећања, бриге и размишљање отворено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Хипократова заклетва: све добијене информације од пацијента су поверљиве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8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Georgia"/>
              </a:rPr>
              <a:t>Лекар не сме да осуђује, посебно у односу на питања која се односе на сексуалне односе, навике или сексуалну орјентацију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Trebuchet MS"/>
              </a:rPr>
              <a:t>Комуникација у гинекологији и акушерству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Пацијенти су данас захтевнији у смислу балансиране комуникације: подробна објашњења о њиховом здравственом стању и начину лече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Georgia"/>
              </a:rPr>
              <a:t>Уколико пацијенткиња донекле учествује у доношењу одлуке о начину лечења и осети да је добила доста информација о њеном здравственом стању, исход лечења ће бити бољи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интерперсоналне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4" name=""/>
          <p:cNvSpPr txBox="1"/>
          <p:nvPr/>
        </p:nvSpPr>
        <p:spPr>
          <a:xfrm>
            <a:off x="1066320" y="2852280"/>
            <a:ext cx="7543800" cy="22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с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штин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јас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гово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2491920"/>
            <a:ext cx="82296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н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маоц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умљив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ениц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реба да буду крат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ос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кла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е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илагод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о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ил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115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Вештин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активног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слушањ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826560" y="1980720"/>
            <a:ext cx="7783560" cy="395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ткри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меру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ра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ис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н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жел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же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аш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говорник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и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нцентришит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е</a:t>
            </a:r>
            <a:r>
              <a:rPr b="0" lang="en-GB" sz="28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ј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аж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т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ристит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техник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актив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лушањ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јашње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стиц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рафраз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мирањ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buClr>
                <a:srgbClr val="a04da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14264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224964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цир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р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ад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његов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учавањ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чел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сније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65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о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90%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муникациј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виј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м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иво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м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ет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ута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јачи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тицај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sr-Latn-C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ербалног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Невербално</a:t>
            </a:r>
            <a:r>
              <a:rPr b="0" lang="sr-Latn-CS" sz="36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600" spc="-1" strike="noStrike">
                <a:solidFill>
                  <a:srgbClr val="424456"/>
                </a:solidFill>
                <a:latin typeface="Arial"/>
              </a:rPr>
              <a:t>комуницирање</a:t>
            </a:r>
            <a:br>
              <a:rPr sz="3600"/>
            </a:b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en-US" sz="2500" spc="-1" strike="noStrike">
                <a:solidFill>
                  <a:srgbClr val="424456"/>
                </a:solidFill>
                <a:latin typeface="Arial"/>
              </a:rPr>
              <a:t>Gerry Wilson</a:t>
            </a:r>
            <a:r>
              <a:rPr b="0" lang="sr-Latn-CS" sz="2500" spc="-1" strike="noStrike">
                <a:solidFill>
                  <a:srgbClr val="424456"/>
                </a:solidFill>
                <a:latin typeface="Arial"/>
              </a:rPr>
              <a:t>)</a:t>
            </a:r>
            <a:r>
              <a:rPr b="0" lang="en-GB" sz="3600" spc="-1" strike="noStrike">
                <a:solidFill>
                  <a:srgbClr val="424456"/>
                </a:solidFill>
                <a:latin typeface="Trebuchet MS"/>
              </a:rPr>
              <a:t> </a:t>
            </a:r>
            <a:endParaRPr b="0" lang="en-US" sz="36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457200" y="2060640"/>
            <a:ext cx="8362800" cy="43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ПАРАЛИНГВИСТИЧКИ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ДЕ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кључуј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вокализац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ау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у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ЛИЦ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држ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фацијал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татич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зраз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а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т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диза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б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за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уотворен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ч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ширењ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оздрв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ложај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уса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ТЕЛ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аст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о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много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различитих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покрет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ГОВОР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sr-CS" sz="2800" spc="-1" strike="noStrike">
                <a:solidFill>
                  <a:srgbClr val="000000"/>
                </a:solidFill>
                <a:latin typeface="Arial"/>
              </a:rPr>
              <a:t>ОЧИЈУ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који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е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сматра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ајбогатији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делом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невербалног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800" spc="-1" strike="noStrike">
                <a:solidFill>
                  <a:srgbClr val="000000"/>
                </a:solidFill>
                <a:latin typeface="Arial"/>
              </a:rPr>
              <a:t>говор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9528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10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АСПЕКАТА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НЕВЕРБАЛН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3200" spc="-1" strike="noStrike">
                <a:solidFill>
                  <a:srgbClr val="424456"/>
                </a:solidFill>
                <a:latin typeface="Arial"/>
              </a:rPr>
              <a:t>КОМУНИКАЦИЈЕ</a:t>
            </a:r>
            <a:r>
              <a:rPr b="0" lang="sr-Latn-CS" sz="3200" spc="-1" strike="noStrike">
                <a:solidFill>
                  <a:srgbClr val="424456"/>
                </a:solidFill>
                <a:latin typeface="Arial"/>
              </a:rPr>
              <a:t> </a:t>
            </a:r>
            <a:br>
              <a:rPr sz="3200"/>
            </a:b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(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Тијана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2900" spc="-1" strike="noStrike">
                <a:solidFill>
                  <a:srgbClr val="424456"/>
                </a:solidFill>
                <a:latin typeface="Arial"/>
              </a:rPr>
              <a:t>Мандић</a:t>
            </a:r>
            <a:r>
              <a:rPr b="0" lang="sr-Latn-CS" sz="2900" spc="-1" strike="noStrike">
                <a:solidFill>
                  <a:srgbClr val="424456"/>
                </a:solidFill>
                <a:latin typeface="Arial"/>
              </a:rPr>
              <a:t>)</a:t>
            </a:r>
            <a:endParaRPr b="0" lang="en-US" sz="2900" spc="-1" strike="noStrike">
              <a:solidFill>
                <a:srgbClr val="424456"/>
              </a:solidFill>
              <a:latin typeface="Trebuchet MS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755640" y="2133720"/>
            <a:ext cx="8013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ВОК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Ф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ГЕСТ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ОСТУР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РИТМ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СПАЦИЈАЛ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ПРОКСЕМИЧК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ПОКРЕТ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КОМУНИКАЦИЈ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ОДЕЋОМ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 ЛИКОВНА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00"/>
                </a:solidFill>
                <a:latin typeface="Arial"/>
              </a:rPr>
              <a:t>КОМУНИКАЦИЈ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65040" indent="-25560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91520" cy="16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Невербалн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омуникација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: </a:t>
            </a:r>
            <a:br>
              <a:rPr sz="4000"/>
            </a:b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разлике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између</a:t>
            </a:r>
            <a:r>
              <a:rPr b="0" lang="sr-Latn-CS" sz="4000" spc="-1" strike="noStrike">
                <a:solidFill>
                  <a:srgbClr val="424456"/>
                </a:solidFill>
                <a:latin typeface="Arial"/>
              </a:rPr>
              <a:t> </a:t>
            </a:r>
            <a:r>
              <a:rPr b="0" lang="sr-CS" sz="4000" spc="-1" strike="noStrike">
                <a:solidFill>
                  <a:srgbClr val="424456"/>
                </a:solidFill>
                <a:latin typeface="Arial"/>
              </a:rPr>
              <a:t>култура</a:t>
            </a:r>
            <a:endParaRPr b="0" lang="en-US" sz="4000" spc="-1" strike="noStrike">
              <a:solidFill>
                <a:srgbClr val="424456"/>
              </a:solidFill>
              <a:latin typeface="Trebuchet MS"/>
            </a:endParaRPr>
          </a:p>
        </p:txBody>
      </p:sp>
      <p:pic>
        <p:nvPicPr>
          <p:cNvPr id="286" name="Picture 3" descr="Grimasa1in"/>
          <p:cNvPicPr/>
          <p:nvPr/>
        </p:nvPicPr>
        <p:blipFill>
          <a:blip r:embed="rId1"/>
          <a:stretch/>
        </p:blipFill>
        <p:spPr>
          <a:xfrm>
            <a:off x="1619280" y="2232000"/>
            <a:ext cx="5832360" cy="354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Oval 2"/>
          <p:cNvSpPr/>
          <p:nvPr/>
        </p:nvSpPr>
        <p:spPr>
          <a:xfrm>
            <a:off x="1187280" y="1981080"/>
            <a:ext cx="7270920" cy="4648320"/>
          </a:xfrm>
          <a:prstGeom prst="ellipse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Oval 3"/>
          <p:cNvSpPr/>
          <p:nvPr/>
        </p:nvSpPr>
        <p:spPr>
          <a:xfrm>
            <a:off x="1676520" y="2362320"/>
            <a:ext cx="5333760" cy="3733560"/>
          </a:xfrm>
          <a:prstGeom prst="ellipse">
            <a:avLst/>
          </a:prstGeom>
          <a:solidFill>
            <a:srgbClr val="ff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Oval 4"/>
          <p:cNvSpPr/>
          <p:nvPr/>
        </p:nvSpPr>
        <p:spPr>
          <a:xfrm>
            <a:off x="1752480" y="2666880"/>
            <a:ext cx="3810240" cy="2590920"/>
          </a:xfrm>
          <a:prstGeom prst="ellipse">
            <a:avLst/>
          </a:prstGeom>
          <a:solidFill>
            <a:srgbClr val="ff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Oval 5"/>
          <p:cNvSpPr/>
          <p:nvPr/>
        </p:nvSpPr>
        <p:spPr>
          <a:xfrm>
            <a:off x="1905120" y="2895480"/>
            <a:ext cx="2133360" cy="1752840"/>
          </a:xfrm>
          <a:prstGeom prst="ellipse">
            <a:avLst/>
          </a:prstGeom>
          <a:solidFill>
            <a:srgbClr val="ff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1" name="Picture 6" descr="PE01000_"/>
          <p:cNvPicPr/>
          <p:nvPr/>
        </p:nvPicPr>
        <p:blipFill>
          <a:blip r:embed="rId1"/>
          <a:stretch/>
        </p:blipFill>
        <p:spPr>
          <a:xfrm>
            <a:off x="1547640" y="476280"/>
            <a:ext cx="1387800" cy="3192480"/>
          </a:xfrm>
          <a:prstGeom prst="rect">
            <a:avLst/>
          </a:prstGeom>
          <a:ln w="0">
            <a:noFill/>
          </a:ln>
        </p:spPr>
      </p:pic>
      <p:sp>
        <p:nvSpPr>
          <p:cNvPr id="292" name="Text Box 7"/>
          <p:cNvSpPr/>
          <p:nvPr/>
        </p:nvSpPr>
        <p:spPr>
          <a:xfrm>
            <a:off x="2268360" y="3733920"/>
            <a:ext cx="1511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интим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8"/>
          <p:cNvSpPr/>
          <p:nvPr/>
        </p:nvSpPr>
        <p:spPr>
          <a:xfrm>
            <a:off x="2743200" y="3581280"/>
            <a:ext cx="12193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9"/>
          <p:cNvSpPr/>
          <p:nvPr/>
        </p:nvSpPr>
        <p:spPr>
          <a:xfrm>
            <a:off x="2743200" y="3581280"/>
            <a:ext cx="274320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Text Box 10"/>
          <p:cNvSpPr/>
          <p:nvPr/>
        </p:nvSpPr>
        <p:spPr>
          <a:xfrm>
            <a:off x="3809880" y="3581280"/>
            <a:ext cx="1828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1,5-2,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ична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ерсо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л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"/>
          <p:cNvSpPr/>
          <p:nvPr/>
        </p:nvSpPr>
        <p:spPr>
          <a:xfrm flipV="1">
            <a:off x="2819520" y="3276720"/>
            <a:ext cx="380988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2"/>
          <p:cNvSpPr/>
          <p:nvPr/>
        </p:nvSpPr>
        <p:spPr>
          <a:xfrm>
            <a:off x="5486400" y="3429000"/>
            <a:ext cx="1676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2,5-3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социјал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-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посл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o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3"/>
          <p:cNvSpPr/>
          <p:nvPr/>
        </p:nvSpPr>
        <p:spPr>
          <a:xfrm flipV="1">
            <a:off x="2819520" y="2666880"/>
            <a:ext cx="472428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4"/>
          <p:cNvSpPr/>
          <p:nvPr/>
        </p:nvSpPr>
        <p:spPr>
          <a:xfrm>
            <a:off x="7162920" y="3429000"/>
            <a:ext cx="990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00"/>
                </a:solidFill>
                <a:latin typeface="Times New Roman"/>
              </a:rPr>
              <a:t>преко</a:t>
            </a:r>
            <a:r>
              <a:rPr b="0" lang="sr-Latn-CS" sz="2400" spc="-1" strike="noStrike">
                <a:solidFill>
                  <a:srgbClr val="000000"/>
                </a:solidFill>
                <a:latin typeface="Times New Roman"/>
              </a:rPr>
              <a:t> 5 m </a:t>
            </a:r>
            <a:r>
              <a:rPr b="1" lang="sr-CS" sz="2400" spc="-1" strike="noStrike">
                <a:solidFill>
                  <a:srgbClr val="000099"/>
                </a:solidFill>
                <a:latin typeface="Times New Roman"/>
              </a:rPr>
              <a:t>јавн</a:t>
            </a:r>
            <a:r>
              <a:rPr b="1" lang="sr-Latn-CS" sz="2400" spc="-1" strike="noStrike">
                <a:solidFill>
                  <a:srgbClr val="000099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AutoShape 15"/>
          <p:cNvSpPr/>
          <p:nvPr/>
        </p:nvSpPr>
        <p:spPr>
          <a:xfrm>
            <a:off x="3419640" y="476280"/>
            <a:ext cx="5040000" cy="1008000"/>
          </a:xfrm>
          <a:prstGeom prst="roundRect">
            <a:avLst>
              <a:gd name="adj" fmla="val 16667"/>
            </a:avLst>
          </a:prstGeom>
          <a:solidFill>
            <a:srgbClr val="ffc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Зо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комуникациј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једне</a:t>
            </a:r>
            <a:r>
              <a:rPr b="1" lang="sr-Latn-CS" sz="2400" spc="-1" strike="noStrike">
                <a:solidFill>
                  <a:srgbClr val="cc0066"/>
                </a:solidFill>
                <a:latin typeface="Comic Sans MS"/>
              </a:rPr>
              <a:t> </a:t>
            </a:r>
            <a:r>
              <a:rPr b="1" lang="sr-CS" sz="2400" spc="-1" strike="noStrike">
                <a:solidFill>
                  <a:srgbClr val="cc0066"/>
                </a:solidFill>
                <a:latin typeface="Comic Sans MS"/>
              </a:rPr>
              <a:t>особ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09T17:10:51Z</dcterms:created>
  <dc:creator>Sorak</dc:creator>
  <dc:description/>
  <dc:language>en-US</dc:language>
  <cp:lastModifiedBy>Slavica</cp:lastModifiedBy>
  <dcterms:modified xsi:type="dcterms:W3CDTF">2016-01-27T05:51:39Z</dcterms:modified>
  <cp:revision>18</cp:revision>
  <dc:subject/>
  <dc:title>Вештине комуникације</dc:title>
</cp:coreProperties>
</file>